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D63-495C-4C1E-BC89-CE910341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6FA-AF43-4483-B1BF-7B38B2BA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29F-FA9A-43FB-A64F-6D49F83F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305-D186-45FA-B2A4-FB1F53B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597A-6E33-47AB-8D7D-C8B997C5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364-C907-40C9-872D-F5EA647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791-B5E8-424B-B318-BCFE706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8DA-6A35-44C3-8CF0-AA076EC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531-5B4B-4627-8687-BEB103F7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D4F-C01F-471E-9154-C752A61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661-5BD3-42CC-9848-ED4A1826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0B2-1B61-4324-A22D-8796DB50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4617-5F7B-473B-A9C6-8F2177169673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9110-7ED5-4C5A-9F42-2819D4CB43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ransm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 RF Signal Measurement Precau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s must be understood when testing RF signals as compared to audio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ading of high-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arallel-resonant circuits by relatively low impedance instru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response shift caused by test lead and instrument input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ing Transmitter Output Pow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mmy anten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istive load used in place of regular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undesired transmissions that may otherwise occur and damage to output circuits that may occur under unloaded condi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SB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er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wanted sideband suppres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 method; widely used in analog SSB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discrimination may be used to cancel one sideband of DSB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e and cosine waves lend themselves to digital process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osed of oscillators, amplifiers, filters, and modulating sta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carrier oscillator directly varied by modulatin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actor diode used to generate FM direc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ance mod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stor made to function as variable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by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M systems utilizing direct generation with AF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ry that generates modulat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imin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posite of a VCO; provides a dc level output based on frequency inpu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m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of stable crystal oscillator without cumbersome AFC circuitry; provides carrier accuracies identical to crystal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rectly generates FM by changing the phase of a crystal oscillator’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apable of much frequency devi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 action of phase detector/VCO and feedback path is basis of a P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ereo F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reo radio broadca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eparate 30-Hz to 15-kHz signals used to modulate the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ereo transmitter has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-division multiplex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different signals multiplexed together by having them coexist in two different frequency r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ereo FM more prone to noise than monophonic (monaural) broadcas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or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modulation (AM) generated as result of mixing or combining carrier and intelligence frequencies within nonlinear device or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ter mixer circuit designed to produce modulation direct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intelligence is in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utral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cuum tubes still found in areas of electronic commun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tralizing capac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th for return of a signal 180° out of phase with signal returned from plate to gr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oscillation a problem for all RF amplif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- and Low-Level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level modulation sche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lligence added at last possible point before transmitting antenn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level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lligence injected at a point before final output st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ice of high- or low-level modulation driven by required power output and trade-off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istor High-Level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-C operation provides abrupt nonlinearity when device switches on and of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in contrast to gradual nonlinearities offered by transistor at high and low levels of class A bi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pezoid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oscilloscope display of transmitted AM signal will indicate any gross defici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 is better if dual-trace scope used to allow intelligence signal to be superimposed on AM sign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pezoidal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to this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make transmitter checks with a dc ammeter in collector of modulated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trum Analyz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troubleshooting in frequency domain reliant on spectrum analyzers for determining spectral characteristics of output and identifying unwanted and potentially interfering frequency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rmonic Distortion Measu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by applying spectrally pure signal source to device under test (DUT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measurement dependent on harmonic distortion of signal source and spectrum analyz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provides signal to DUT; spectrum analyzer used to monitor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2:31Z</dcterms:modified>
  <cp:revision>6</cp:revision>
  <dc:subject/>
  <dc:title>Slide 1</dc:title>
</cp:coreProperties>
</file>